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63F-EE82-4385-B55D-7A61704D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E93-491E-4981-A89B-D6EFE328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41E-4344-47C5-B48B-CC4A295D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87D-3E63-4BA3-8B21-BBD12B68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4A4D-DE3A-4615-9991-3EAB0C43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56BB-D63A-4D0D-B739-4B143690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796D-4B0A-4AC9-911C-3ACDB98B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4828-4D06-4719-B0DD-43E0AB23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E0C4-A72C-4BFA-9C48-03F3FFD3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FF40-BA92-4E1D-AC48-52839280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410C-5D97-48B9-A922-49232A1B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162-E9B7-464C-A60C-9C16D58F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4AB4-E89F-4626-ADEB-680D9B3D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6BFC-9E5A-451B-A902-DB1E7512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1B39-D833-42D1-AB2B-D1EC86E4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A725-68A6-4C25-ADA5-8EF0DC64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B672-5A72-4E57-9038-9F7DC0B2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1FA4-51B1-4F86-937A-5B4F19D3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C55-B397-4C1E-81F5-893F1C87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7C3-1558-42EB-B6CB-DCEC8759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4DD-47C4-45C8-A9EF-40E37348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15E-3C9C-485F-81B1-A3F4B5AD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5A26-031B-4677-BAD9-BBDE924C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BE4-0818-44DE-BD02-54DA0E99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5E2C-77C3-4A2C-A8D1-09D2426D5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485C-E614-45BB-B8EE-B3B025F2E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4479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rindl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33160" y="41144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5" descr="Frindle"/>
          <p:cNvPicPr/>
          <p:nvPr/>
        </p:nvPicPr>
        <p:blipFill>
          <a:blip r:embed="rId1"/>
          <a:stretch/>
        </p:blipFill>
        <p:spPr>
          <a:xfrm>
            <a:off x="6172200" y="152280"/>
            <a:ext cx="282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bsolutely important;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ecessar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eacher had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put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being stri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acter trait as seen by other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licy of behavi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9480" y="373392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laye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orshipp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Olympic athlet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tertained the possibil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ad great respect f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533520" y="4419720"/>
            <a:ext cx="5410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glov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senti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playing in the outfie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cessar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nd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2819520" y="3809880"/>
            <a:ext cx="3047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stomac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pand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fter eating that last cupcak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run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t bigg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057400" y="4495680"/>
            <a:ext cx="3505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s bare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cquain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the kid that was chosen as my partn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st frien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mili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743200" y="4343400"/>
            <a:ext cx="2666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 said that our nex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ssignmen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uld be a piece of cak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sser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s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048120" y="44956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ach said I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uarante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pot on the team in middle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ertain to happ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ly a possibil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9480" y="373392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she follows the corre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ocedu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arah’s cake will turn out delicio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tho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ke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124080" y="3733920"/>
            <a:ext cx="2667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04920" y="12193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04920" y="25909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04920" y="39625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04920" y="5410080"/>
            <a:ext cx="358128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419720" y="1219320"/>
            <a:ext cx="373356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648320" y="25909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648320" y="39625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4495680" y="5410080"/>
            <a:ext cx="373392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00040" y="2362320"/>
            <a:ext cx="5181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omething assigned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specially work to be don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038480" y="68580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352680" y="2362320"/>
            <a:ext cx="5029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people think and say the character of someone or something i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733920" y="609480"/>
            <a:ext cx="358128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971800" y="23623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ade aware;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nforme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ade larger;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ncreased in siz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733920" y="5335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ays of proceeding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ethods of doing someth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3581280" y="5335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657240" y="2362320"/>
            <a:ext cx="4724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ade certain that something would happen as a resul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733920" y="457200"/>
            <a:ext cx="37335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id great honor and reverence t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886200" y="762120"/>
            <a:ext cx="373392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ship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Lisa</cp:lastModifiedBy>
  <dcterms:modified xsi:type="dcterms:W3CDTF">2012-09-16T19:05:34Z</dcterms:modified>
  <cp:revision>6</cp:revision>
  <dc:subject/>
  <dc:title>Frindle Vocabulary Words</dc:title>
</cp:coreProperties>
</file>